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17F-E246-416C-8295-A6265D23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B4D-68FA-45D2-9B35-34747F30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204-CE96-4127-BFEE-2D8F5790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D27-80E2-4246-A85C-453A6141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F0A2-7C27-4CDB-AA93-B7EB8371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A3E2-3E66-4340-B3A4-F4E84FF6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CD6D-EF5A-4EF8-97AC-61CFF9F8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1E01-2A8C-4FD5-B539-6EC881CB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B06F-9EF2-406D-BCA3-68DAAE0A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1062-CFB5-4F76-AE8E-6FC0CC4C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60F3-F395-4EA7-8C86-6C9755B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1C3-3057-4055-8344-FF8B09B2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0D1D-DB95-4F28-891E-BDC5B6A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295A-59A6-4ACB-9A38-6727E1FC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3AFC-E31C-4ACA-9FB3-43674224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9F91-1154-43CE-8CD6-BB8013E6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8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6240" y="16765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8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6240" y="406476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3931-202C-4889-959F-1F2A97B9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2FA-EA70-4133-B892-22351BD4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BB1-E5AB-4796-8D70-96DC5923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1DC-2A8D-4A7A-8B46-FF2E827B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80010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6CF-E8CA-4C25-A776-B84DB95E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74B-8491-4CF4-8C12-B56591F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406476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E98-91B4-4055-93C4-0D3A1F7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765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06476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1F5-F7AD-4F4F-9847-B64CEDE3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6104-4943-4963-845E-F835B5B84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5FFB-19BE-43B4-8C13-62D7FF400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FQ:  What are the classical civilizations of Greece and Rome?</a:t>
            </a:r>
            <a:br>
              <a:rPr sz="3600"/>
            </a:b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L86(RR6)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2209320"/>
            <a:ext cx="7010280" cy="4038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Now:  Regents Review Ques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udaism, Islam, and Christianity share a belief i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the central authority of the Pope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a prohibition of the consumption of port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reincarnation and the Four Noble Truth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.monotheism and ethical conduc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 Leaders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quered many lands as leader of Ro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rdered by the Senate because he was becoming to much of a dictat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est leader of Ro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ed the empi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period called Pax Romana (Roman Peac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Religion and Achievements 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theist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gods taken from the Greeks just rena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on of numerical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queducts (plumbing system that brought water to cities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 Fall of the Empire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a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econom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harves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ire too big and not enough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Practice Questions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ncient civilization of Mesopotamia and the Roman Republic an important feature of life was the crea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 law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and political equa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theistic relig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icultural commu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Prep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henian citizen does not neglect the state because he takes care of his own household… each man values the administration and participates in government duties”---Which type of government does this quote suggest Athenians va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ist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Prep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ype of government did the military polis of Sparta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arch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arch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ran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360096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ctatorsh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--Geography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land peninsula as well as about 2,000 small isla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mountai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travel and trade very impor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fertile 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1148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--Religion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thei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gods (Zeus, Hera, Athena, Aphrodite, Apollo, Poseidon, Had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66294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: Governmen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States called Po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ir own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arch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ranny (like dictatorship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archy (powerful few in char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:  Sparta vs. Athens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ess on edu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 and sci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ety based on milita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ected the Phalanx techniq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-1360440"/>
            <a:ext cx="32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- Contributions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arter ---Comedy and D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ers --Plato and Socr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Ancient Greece:  Alexander the Great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Maced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all of Greece to create a Greek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many lands and blended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 Geography  and Government  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an penins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ntai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travel and trade ver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f Ro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ublic --elected directly by peo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w codes called the Twelve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branches (inspired USA lat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Rome: Social Breakdown 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lthy landown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h power due to wealth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b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farmers, artisans and mercha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ity of the popu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0:18:41Z</dcterms:created>
  <dc:creator>NYCDOE</dc:creator>
  <dc:description/>
  <dc:language>en-US</dc:language>
  <cp:lastModifiedBy>NYCDOE</cp:lastModifiedBy>
  <dcterms:modified xsi:type="dcterms:W3CDTF">2009-05-18T19:41:30Z</dcterms:modified>
  <cp:revision>3</cp:revision>
  <dc:subject/>
  <dc:title>FQ:  What are the classical civilizations of Greece and Rome? L86(RR6)</dc:title>
</cp:coreProperties>
</file>